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C0C-5BB4-4AFF-803C-AAFD0591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26D-FEF0-4B59-AE8E-BBAB1EFF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D20-D7F1-4353-9750-95875A94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8A6-B8DD-44AC-9B86-9AE9B2AB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0436-171F-479A-90CA-6593CB29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A16B-FF8D-42E1-8DAF-C669F8D1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F32C-FB18-441B-A9BE-A360C753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B109-E348-49B2-A252-737780FA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3934-6245-442F-95A9-1C2C6CC5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607E-C39A-4525-A1FE-8B259678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82F8-9606-4D63-89EA-A0393BF7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E15-44D4-45C2-9DF8-CB2B5A5A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9D76-C110-4629-8338-D3D9A0CC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6F21-5501-4814-A5CA-4741C3E5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E800-056B-4668-9EBA-DA1754B2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2C54-0363-4B74-90D6-283BAA10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A583-4147-447E-A990-7EBBF92A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265D-4050-46CA-A791-F6A8D67A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306-74BA-4A0E-9FB4-67B5C0F6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0E1-015B-45B4-B615-91EED41B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651-619C-4938-9D0E-0659C8D7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119-5608-475E-B3AC-28A10133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F90-D150-4742-BCFA-D7942764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402-B9B9-4325-A810-F34EF0A7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179B-B132-4857-9EBE-7F289EC547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5DCD-B95D-4CE9-948D-60376C3F86A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How Long, O Lord?”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3, Lesson 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lation 12-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39-15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cap of Revelation 1-1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chapters show the conflicts between good and evil from the standpoint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’s wrath is poured upon the wicked upon the ear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aints upon the earth were sealed and protec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ist was victorious. His kingdom was established in spite of the op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Chapters 12-22 we go behind the scenes and see that the forces acting out upon the earth-stage were directed by Satan’s forces versus God’s fo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us, Satan versus God in drama scenes of beasts and Dragon versus the Lamb of God and His Help of His peop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onflict Between God and Sat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. 12-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ragon Tries To Destroy The Glorious Woman With Child – ch.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ild is Christ, the Woman is the Faithful Remn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lorious Woman is Prot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eapons for overcoming the Drag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lood of the Lamb – 12: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ord of Their (Apostles) Testimony – 12: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ir Faith Commitment to the De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onflict Between God and Sat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merging of the Dragon’s Helpers – ch. 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ea Beast = The Roman Gover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saints will have to be patient and faithful – v.9-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arth Beast = Religious-Political Combination in the Land (Israel) – v.11-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amb Preserves A People – ch. 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nds out the Gospel and reaps a harv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ses unbelieving Israel into the winepress of His wra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even Last Plagues – ch. 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owls of Wrath – ch. 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ke the plagues upon Egyp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athering an army to battle (Armageddon) to press the Great City (Jerusalem called “Babylon”) under His wra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onflict Between God and Sat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bylon the Great – ch. 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ther of Harlo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erusalem had filled her harlotry to the brink of disaster – Jer. 2:7; 4:1; 6:15; 7:10,30; 44:1-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he rode upon the beast (Roman government) to assist her against the servants of Chri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ll of Babylon – ch. 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ints called to leave – v.4-5; Compare Matt. 24:15-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all for double punishment – v.6-8 – Compare Matt. 23:34-3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amentations over her destruction – v.9-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elebration of the saints who were now “avenged” – v.20-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onflict Between God and Sat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ictory of Christ Over All Foes – ch. 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lebration over Babylon’s fall – v.1-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lebration over the Lamb’s marriage – v.7-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efeat of the Sea and Earth Beasts – v.17-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inding of Satan And How It Will All End – ch. 20-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00 year reprieve of such government led persec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sed a “little tim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t into the Lake of F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Conflict Between God and Sat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w Jerusalem – ch. 21-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orious and N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and Man Tabernacled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lory and beau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dise Resto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02:37:12Z</dcterms:created>
  <dc:creator>Terry W. Benton</dc:creator>
  <dc:description/>
  <dc:language>en-US</dc:language>
  <cp:lastModifiedBy>Frank D Vines</cp:lastModifiedBy>
  <dcterms:modified xsi:type="dcterms:W3CDTF">2007-07-04T19:15:26Z</dcterms:modified>
  <cp:revision>4</cp:revision>
  <dc:subject/>
  <dc:title>“How Long, O Lord?”</dc:title>
</cp:coreProperties>
</file>